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0746-C6D1-43AC-96E8-56130D19D7C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3742-DD14-4224-8841-4B17A1F92811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D68F-109C-4A78-A13F-21B1D8766DB5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BE19-68B2-4E63-ADAF-F2A19949E335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6FD5-BDD4-4C74-8012-2A3C94F3AAA8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4FD-68D1-4B87-9815-C5EFDEA9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3E0-5B0A-4354-A12C-294BD92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27C-2DAE-42BD-8348-5E8D28DE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B26-5BAE-4AD7-B656-3E870FA1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D91-9EB3-4E51-89B8-EA479A0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AC9-E24D-4AF4-AEE4-62B6E043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E91-50F0-4BB6-A9A2-5E829278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836-06DF-4066-8607-32B6AA9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937-C91E-4BEB-BF58-7D67A99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E00-6598-4DAE-9FDA-077961E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A5A-3691-4572-8B40-328AE85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777-66DA-4651-B4CF-D5A5128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E1F3-87DF-429A-AEBF-8F91B3B0971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EL</a:t>
            </a:r>
            <a:r>
              <a:rPr b="1" lang="es-ES" sz="2800" spc="-1" strike="noStrike">
                <a:solidFill>
                  <a:srgbClr val="b7e7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DJETIVO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radicionalmente se define el adjetivo como una palabra que expresa cualidad. Pero este tipo de definición no lleva a ninguna parte porque también sustantivo y verbo pueden expresarla: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“blancura – blanquear”.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ás correcto es decir que, en relación con su significado , hay varias clases de adje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53740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Usamos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delante d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as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porque ya sabemos que el interlocutor tien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una casa 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 Al contrari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muy interesant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es una informació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que el hablante da al interlocutor, y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redonda o cuadrad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sirven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distingui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teposi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del  adjetivo al sustantivo da una significación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más poética y afectiv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viej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jardín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juicio personal y afecti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jardín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viej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observación objetiva y realis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también adjetivos que se pueden tanto anteponer como pospo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caso decimos que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colocación normal es neutra, mientras la desacostumbrada es expres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mayoría de los adjetivos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tip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 (que indican la categoría a la que pertenece cierto elemento: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vestido elegant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proced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y todos los adjetivos de nacionalida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y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form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(redondo, rectangular..)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va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despué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l sustantivo, porque, debido a su naturaleza, sirven para especifi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613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lgunos adjetivos cambian de significado según la posición que ocupan con respecto al sustan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pobre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hombre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desgraciad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o)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hombre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pobre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sin diner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Ciert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sa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algun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os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ciert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verdader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gra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hombre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que destac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hombre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grande (de tamañ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nuev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che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otr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ch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coche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nuev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si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usar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84232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adjetivos que indica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orde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en una serie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primero, segundo, siguiente, próximo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normalmente se pone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ant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l sustan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fue mi primera novia/ Te pido una segunda oport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ero cuando hablamos de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lantas de un edificio o de capítulos de un libro,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ambién se pueden usa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despué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l sustan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Primera planta /Planta pri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Segundo capítulo / capítulo seg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Hay casos en que el adjetivo forma con el sustantivo una unidad conceptual. En este caso tiene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posición fija, que no se  puede camb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l libre albedrí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via férre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53740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adjetivos pueden expresar la cualidad del nombre en diferentes grad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grad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osi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expresa simplemente l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cuali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guap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grad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compar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lo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compar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con la de otro nombre y puede ser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igual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ta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guap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com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Ber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,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inferiori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meno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guapa qu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Ber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 o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superiori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ma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guapa que Ber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613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os adjetivos 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inferior, superior, mayor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menor, mejor y peor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llamados adjetiv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sintétic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se derivan directamente del comparativo latino y no admiten este grado, ya que no es correcto decir más inferior que, menos superior que o tan mayor como, por ejemp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•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l grado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superl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expresa la cualidad en el mayor grado y puede se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bsolut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muy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guapa. 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guapísima, superguapa, requeteguap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rel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más guapa d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famil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menos guapa d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famil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Cuando el adjetivo v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introducido por un verbo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suele constituir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información nueva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con respecto al sustan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¿Qué te parece? Es preci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 veces, se encuentran us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adverbial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ad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Respire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hond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/ ¿No lo puedes hacer un poc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más ráp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537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calificativos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son los que expresan una cualidad del sustantivo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Bueno, malo, inteligente, vali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de relación o perten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inguístico, social, musical, ocul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gentilici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: expresan el origen o la procedencia del elemento al que se refieren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madrileño, canario, rus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cuasideterminativ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: son adjetivos cuyo significado está muy cercano de los determinativos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siguiente, último, anterior, postrero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53740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uando ya sabemos de qué sustantivo estamos hablando, desaparece el sustantivo y se queda sólo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determinante seguido del adje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¿Cuál prefieres?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v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demás podem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sustantivar el adje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para referirnos de manera abstracta a todo lo que tiene las características expresadas por el adjet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Verdana"/>
                <a:ea typeface="Verdana"/>
              </a:rPr>
              <a:t>Lo bon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Adjetivos que se combinan con el verbo ser :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jetivos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relación y proced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El problem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es político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/ Soy extremeño, es un problema o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jetivos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con sujetos oracional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es necesario, es probable, es importante, es distinto, es común, es evidente, es propio,es absurd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todo estos casos es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imposibl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utiliza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esta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si lo que sigue es un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oración con función de sujet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djetivos que se combinan con estar :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s los adjetivos que indican u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resulta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so los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participi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alvo e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nstrucciones pasiv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se construyen con est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Ana 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á cansad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, el jarrón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á roto,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bebé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á sen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djetivos que se combinan con ser y estar: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se combina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adjetivo design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a cualidad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her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lo designado por el sujeto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urora es aleg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a característica más o men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man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sujeto, que pertenece a su descripción o lo clasif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Pedro es soltero (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 incluimos en una cl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uando se combina con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sta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el adjetivo design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ualidad </a:t>
            </a:r>
            <a:r>
              <a:rPr b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dquirid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producto de un </a:t>
            </a:r>
            <a:r>
              <a:rPr b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cambi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real o pens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Pedro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stá solter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ha cambiado estado)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uror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stá alegre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nos referimos al estado anímico en este momento concret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61372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os adjetivos de una sola terminación son invariables en cuanto al género (agua / ciel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zul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hombre / muje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legr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paseo / músic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gradabl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) y los adjetivos de dos terminaciones varían de género al tener distintas terminaciones en masculino y en femenino (fresc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fresc 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; buen 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buen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; blanc 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blanc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61372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lgunos adjetivos se apocopan: bueno, malo y santo se convierten, e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buen, mal y s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cuando van delante de nombre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masculin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buen hombre, mal amigo, San José), aunque santo presenta algunas excepciones (Santo Tomás, Santo Tomé, Santo Toribio y Santo Ángel), y grande se convierte e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gr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delante de cualquier nombr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masculino o femenin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gran hombre, gran muj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60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Todos losadjetivos tienen diferentes formas al cambiar de núme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Tienen excepcion los adjetivos qu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terminan en –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y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son palabras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gudas que son invariabl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gratis, isósceles, etc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os que terminan e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vocal áton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en singular forman el plural añadiendo –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grande, grande-s; hermosa-s; limpio, limpio-s), y los que terminan e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consonante o vocal tónic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l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form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añadiendo la terminación –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baladí, baladíes; común, comunes; mortal, mor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53740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gún lo que afirman muchos gramáticos los adjetiv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no tienen géner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 que ocurre es que, según el sustantivo que acompañen, adoptarán una terminación particular. Por lo tanto sólo los sustantivos implican gé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adjetiv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y l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artícul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no implica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géner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sólo l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expres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y poseen terminaciones par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acomodarse al género del sustan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53740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adjetivos pueden complementar al sustantiv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siguiéndol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ecediéndol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Su posición determina también su va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jetiv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pospuest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al sustantivo: suele llamarse adjetiv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especific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porque generalmente constituye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con respecto al sustan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también para distinguir el objeto del que hablamos de otros obje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sto hace que en esta posición tenga un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lieve mayo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cabo de leer una nove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muy interesante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¿Vas a comprarte la mes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redond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o 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cuadrad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ambién digo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abell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blanc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oposición a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abell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negr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84232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cambio, cuando el adjetivo v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ant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sustantivo ya no es nuevo con respecto a él, y junt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forman un bloqu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normalmente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destacar una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cualidad del objeto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presupone la relación adjetivo-sustantivo.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¿Estáis ya en 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nuev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asa?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/ 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gra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ballena se alimenta de las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pequeña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riaturas del planc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16T15:05:4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